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7BEB-401F-4A3B-87FB-4CDD36E07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E76C-BC43-47CC-BC1F-C363146A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F56054-AC78-4A72-9B48-3214A67A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E91C19-8349-4205-9AB0-84D5F631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0C8F3C-B5D2-4A13-BC47-126E2B4B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F9003-3AA2-4C2F-A98A-36F4B2E3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028211-F5B8-4E19-85FA-3CA1D79B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76FE2A-CACA-4CA4-B80F-F6396F4E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91E7F1-1EB4-4C64-9B87-68E54D74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DE1635-9C12-4600-A892-9D501CA66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9A1DCB-35CF-4830-BE2F-3F772E3DC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82828D-7912-4580-B27D-28B970E82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6FD2-F5A1-4E04-99BF-3AA8094B5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3E0A0B-B572-4724-B3D7-69DEFF4B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FB2D30-819C-4C73-AB6B-CD6F5D23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7546A0-063E-4D12-98F5-750C9DA4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65420B-2010-464A-917D-9B6FAB12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34AB7F-53CC-476E-B9C8-6CABC0EA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255719-9DC2-4409-BE5C-2DA25568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B339BE-3986-479A-9C76-7C229CCB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60AA7D-2F65-4AD0-A52E-D42BF17E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95963A-AEB7-4049-9E0E-D36787FC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33E4D0-60C7-4370-9C7E-8902814C6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2C45-6DC0-4E12-8133-29DBF436F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6B0368-A523-47A6-AB10-75F482916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8EDDB-FB0A-45F9-94BA-60F51F33E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DF567-284B-4298-A507-698D3CD9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94550D-B129-4DE9-97E7-5166CF9F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EE9FA-8451-445E-BFA3-17774990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F08A8-6170-4869-B81E-37DF968C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A6DA9-F205-4099-A008-34EEBA36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D1B9A6-6BFA-4DF9-B5F2-2A1926ED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A8E97-C3CF-4513-BECE-3E572B8A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0ED45-F434-4238-A71F-E4467368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383A2-354B-4259-BE4E-3A81EEB13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93664B-39BF-41B4-BF4E-314C6A94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AC6E8-EDA0-436F-BAC7-F364BDAC3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AF9F3-70EF-4EB5-AA83-77C2EEE03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9A9339-F9B5-4065-AB4F-A8B022E45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F0278F-4C36-44C9-A094-14A44E2C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DA3CA0-6C41-45AF-8283-81EB0247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FC0BBB-5975-40EB-A9D1-A7FCC912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FE7EC6-A526-4016-8E62-F22A5ECC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E4D4E7-454A-4170-ABF9-12B352BF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01E298-4443-4C10-B3BE-DB17C64C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F33F-DC79-466A-BA34-2BF2984F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A6B82F-795D-414E-BF27-3E261FF0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A1AA87-92E2-4B43-8394-3D9C51D9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FA32A9-94CB-4AB1-9EA4-AA1B4D30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EEFC29-14DF-460E-8215-236174D23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E5531C-A756-40D7-8ED5-99A8908D1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E76034-1E0B-4F5D-9681-D1074A35A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73C433-78C2-4F21-A620-80D4E1301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DE56C1-AC37-44BB-8BDE-92239B35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B17CC5-7141-43A9-9383-35E45805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30BA7B-0B5A-4AAA-8E1C-6586D8A4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2AF9-44EA-4CEB-9E3A-781DF437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5B80E1-9C6A-4A2A-B471-33ADB52B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609905-5138-4656-B463-29FF8DF0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D6E880-880A-4476-BEB2-59412FE0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45F66A-777E-48F0-8B5A-9FBDC844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C2B978-B611-4060-9802-C02C4BED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BD4020-7F94-4890-BC29-F7740AA8F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8C9AD0-0D7D-4EAE-BA5C-48A6B963D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DB56FF-7884-42F1-B36F-A6AEC5027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5F0324-0973-499A-879E-276550F1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ACAA54-151F-46FE-8FC7-E29702C0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8E75-6A54-4598-ACDD-D35608D3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79A965-5440-4101-AAE0-A4CEFC6E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E188EF-564F-482A-BA3F-8F1D7131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AA87BA-A905-4CA0-94F4-0DE1BD7B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366643-5551-4B30-A073-CC5B6CC5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FD580E-48BA-45B6-9C91-B9750CFE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4D5640-B443-4555-B3C9-E895E109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134B57-4DF7-455E-934C-1EE93FC7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F364CF-5850-4BA5-B946-66B43C473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0C4023-9E27-4BC2-8815-B8D70460C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EC61D0-C47F-4ABB-9CA1-8DE191A73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6ED2-088F-4069-81F3-9F7F46F7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3EB3AF-4110-4612-8700-2C7B1C58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3C65A5-442B-4166-8B24-A6D0AD18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67E73E-BE86-4493-983D-44BE85EA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4D1F0E-DC92-483D-9B30-FF6F1A94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8827A2-D728-418D-A181-046EF62E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C14610-F5F0-4642-925E-5B79D7A9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B1B95F-C76E-4ED4-85C2-5DCF5997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F8F965-ED54-4105-9525-7D724535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045079-A427-4EF4-A26A-EF59468C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32D377-95F5-47B5-973F-D04F6FA1E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8DF5-6CE5-4F01-A3E0-BCC6D5C3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E2FE3A-9559-411E-A0FC-B5CC691F7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2269E2-7401-4AA1-ADA1-5EAC4D366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2335A9-4271-42C0-9136-51E77279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610A0F-8BF6-42A3-B1B4-4ED2CE65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6EEB31-E3B2-4A52-8831-4D067D52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A6B0ED-A420-4CB7-9AF1-CE3DE6FB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D9E53E-D5F8-42EC-8C74-8622D25A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402A01-EC74-4629-9E55-6945760B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CA0B0A-A290-4BA5-ACFA-97D710C0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698616-27ED-4277-98F4-BEF18FDF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24517-55D7-4DC0-A6AA-ABB9AFD2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6B6B33-2B9B-4B6A-B339-E6AF823C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ED6262-99C7-4352-9E7F-6D2AB1ECA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3B908D-34EA-494B-9E1A-C845F8487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25DB6B-CB86-4BAE-8B59-87CB21D9C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0915DA-A016-46F7-B467-4A284D5E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1A5146-572A-4E3A-BB50-1D808235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4732A2-F531-4314-9ED9-7AF1BEB6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E52FA8-FA15-4629-A29C-9D79B494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E52C86-5286-4A7F-A330-59184E5A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381F00-1398-4D3B-B5FA-25A7C892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E8ED-47F3-467B-80C0-68A5E825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BA15-3440-4EB3-8F8D-31E8F1DF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09911F-412A-4393-95B1-B51785E6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804A37-2741-4D30-A486-F3A4F7B2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565245-E022-4146-A730-E50E59D8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B47F11-8344-4060-AE7D-77BA8B47C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DE2AC2-0044-4141-A1A9-2FF069C08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5013DC-2E1E-45DA-AD72-B44E0F80A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08D370-8303-4B25-9B81-4E64D31C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6795BC-2062-454B-B298-1AAABBF0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A0009B-08D9-4329-8A7B-AA509A2B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8D6663-E37D-4EE8-A138-77AD0BC2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F572-D841-4F33-98C2-04DD7DF9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8F128D-4643-4EA7-8D72-B6B9C3BD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0F16B3-3656-4DE4-B818-67B2481F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41F0DA-E37F-4E60-8BE3-BD106CC2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B9D795-EEAA-42BA-BC37-3953F9CF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229918-E3D4-48D4-9C41-87A5830A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36046B-8810-408C-B20F-3F2734840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9F5FEB-F687-441C-9196-0E09C8DA9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EB993F-C994-4739-8CB2-98707B6BE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75E41C-2F79-4129-A7F6-80E0E642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703660-CB7E-4C80-9D19-55850262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82F17-0532-44E2-8B78-23FB8337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6EC4A2-F061-42A2-8D47-7260DD98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649F17-C4E7-4E8C-889E-41F4EAAD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1AC58D-3265-4686-A084-89BEC612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E55B09-5FEA-4A40-936F-DB16146F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906439-2651-4990-B0FB-B61077DF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8D35B0-C220-4587-A582-3BA99911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1A8472-A0E5-4BC9-9DD6-1C867278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5A6540-53CE-4D23-9010-39978EDD2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AB3C08-5A18-407A-A340-E95D7DB81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34632D-AACE-494D-9CD4-82F90858E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FC9F-795F-4D75-8C51-C78C92435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EA9D1D-92F9-4EAE-82D0-D8639B32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E70B88-951B-4C0F-9FBB-37C74257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0A533B-1E04-44E6-AB52-54C47FF6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90A75C-9854-4AB0-8E6E-8BC382C0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1A779E-698C-4054-85D5-543AC263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6D42F8-6E4A-48F4-B42B-50939487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E35F4E-5DF8-44A2-A6A4-7D65014D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E9531E-9365-4119-9E9A-1127C8AB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64D190-D387-4B15-B071-0BA6DEB4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AF8EC3-4CD5-4371-A721-9511F5003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9C983-F681-4EA9-8E98-93089E468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194798-F3EA-47C0-8276-384ACEFC0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2ADAC2-E5F4-4373-8CF6-7A1764E76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369CDB-5A49-4157-BDEF-E8702388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BD8A8C-812C-4650-8403-A5F4259D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6B2664-6120-4FA0-B69A-5B7B2D91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D572FC-F98B-4105-A56D-D171B907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3B2C58-BA1E-4B2F-9AE6-F978319C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94FEB9-AFAE-4708-9AE8-967FFD06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104295-FBF7-45CD-A2A0-EDF54803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5706E6-7395-47C8-B204-F912300F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7B031-5C4A-44C5-AD1F-6CA53FDD9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F1928D-BCD7-45EC-ACE8-9531B405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BF1EEA-B4D3-4B27-9A36-20847CC2B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A21BCA-4BF5-4F17-8573-600E9C9B7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8B99D7-CF30-4EF8-ACA1-FA0D58313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214D5D-8996-41AF-9EDB-0B673282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35F721-9EF0-4695-9737-3D906C8C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54CB6F-69BF-4BAD-AA3B-074E8293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955BB7-54D9-4224-A50C-0286E411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0DBAE8-7CAE-47D2-93B0-C16B53ED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67E310-D755-4786-A1F1-FABF9C8E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6741E-BDD5-47C8-9A18-7E5BFADD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ED904D-CDF9-4070-8F34-C1C05111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4DC930-7131-4A51-BC88-A0D35E04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14CED2-A5DB-4F17-8186-0D715E2F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215BC9-8834-4718-B7FF-C3BDF6586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58DC54-0CA6-46DB-894E-FFB30DB53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6178F5-1D1B-4BE6-A679-7079DAC9E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EB8AA1-7D63-46B0-A097-1BBC4A14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E1FCF2-398B-43E8-8310-337668C6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CE2522-7EAE-4F89-BA8A-F4EA72CE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3CBF29-F352-44AA-82CA-9B0A75AA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258F9-B47D-4490-B540-7DCCAF11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C2AF6E-2D84-4465-B130-ACCC2375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13312C-57FA-4247-97B2-E9C87B18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DD5FBD-83D0-4EB5-8F4D-9CB9B950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DFDFBC-7590-4939-9F5D-E9AD0ED0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B784FD-7A09-4B03-85AA-233CB573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4C5686-AF99-4C12-8141-76A9BE785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674699-9A3B-4026-876B-918D550F2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E36AD-DE5B-4833-96D4-F0AF00B7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FFAC2-2AA2-431D-BF3C-F6646226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8BCA-DA95-4243-BAAD-55EF4787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D7639-5078-4A77-92A8-9F125BA1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2EC3D-E74B-4019-AAB5-B50DA91A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9E012-8D07-4B8D-819A-1FC1B568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42A82-4B0B-44D8-8278-B134D11B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302CE-0425-40F6-B269-636C8BA9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63D2C-A638-4AB9-B9ED-5C296C1F7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D277B-F59D-4D06-B865-C2C7785C5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0D32B-BFA1-40A5-BF09-7D523A361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931A4-983E-4E1D-AAB8-58307149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AD3F1-C239-4C9E-8A66-FD011392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45AA-3349-4815-A290-9B131687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A657F-2D18-4286-BF90-A573B669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D417C-FD62-4E52-AFFE-9CBC9D49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24397-699A-4463-A458-AB1C99D3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AF8F2-3C56-43C5-AC56-731302AB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18BBF-AC7A-4727-A82C-59772C51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818CE-9DDD-42C2-8809-9DD68D6A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0611C-D27A-4098-B529-17CDB7FB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78D50-436B-4FF9-B169-B13B4A73C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528F9-2334-4827-8EC2-51BE44B7F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3E4D2-AC6B-46B3-BB33-A6F759215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C3EF-64F9-43BA-A37C-5A50DC95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6CE49-1FA2-4664-8D5E-CE25C79D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7350B-8397-4AAA-8D1D-721D1755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2A9C3-07FA-44C5-9022-14919E18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84EEE-1AB4-4E65-81DF-97466F1D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AC2DB-15C8-43AE-885F-1E267E31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0BEDE-8D97-4F70-888E-85C3A5DB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1AF25-4F8C-4714-B647-E1985002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42EFF-0E94-4EA6-B3DF-E9BE9A80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CC57A-26A2-4A98-A3EC-CF567C35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50D08-9531-48FE-A07F-CFEE5013C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3650-94BE-4795-A1B5-F9255DB5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885E4-24D8-4373-BEDE-1F7F5B8C1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96A52-25BA-4603-A14C-DC6A01190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34ED4-95F6-4FE6-93F4-CA18D9C5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8602F-A7EE-462A-BDF9-44A69E79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E705F-19D5-4932-BB4E-14695161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103AA-1104-47FF-B35F-89C11348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FE5A6-96D5-43C7-BABF-D5CC48DA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49D0D-3785-483B-9768-166081A4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33544-1890-42B2-83F4-7BF6D31D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AA2B6-122A-493B-9D89-EB008AA4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97E4-3ABC-4338-B6A7-6022D77B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EE4D9-F16E-4A1C-9254-41474345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69895-4D22-420C-99DF-9B6C072BE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2158F-2367-4ED3-8749-93769FB4E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403AF-3DC7-42B0-A60D-66C1CB170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D2CD7-A6D5-4CFC-B0F0-EDB53EFD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C3F85-F2D7-4FA3-9752-7A39269C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8CE54-E02F-4231-8945-74F96A5E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794BF-0A6B-45A4-8258-2B93D0E8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BB4D5-6F4C-4D20-80E8-1097E87A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8BBDF-B0AB-4AC9-8DC3-B3835F04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A517-F7EC-4DD7-9D70-0792D32A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88A52-800E-4FF9-B1E3-B61D68DE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90365-4C3A-4EA6-A5A1-9D2AE5A2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5C947-EFCF-4D81-BBFA-FB6C9D51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1DBE1-893E-44CB-A0EB-EA2C39EED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823EE-D5D2-4005-BBE6-061378190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42F70-CB1D-4174-83AB-F63F9B965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A45A8-9E8B-4244-B711-CA41D811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493A8-15FD-4B61-8E52-D57EF87E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174F7-1F23-4F66-A965-F0F6344C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1F712-BACF-4940-8BD8-882B5B4A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B60F-F5DD-4D9A-B305-6B3D2D91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20DF8-D7CB-4FBE-9D47-D28FD9F4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134DA-E811-4928-8AC1-BC3F67FD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C2629-DD75-4935-975C-653B34C4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75F2B-8DC0-48AA-B4CC-30D9E525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E4056-A12D-45C6-B424-5C80A8A6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377CE-5BDE-4E75-9E8D-39791EB80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8600E-D477-4167-969A-8B102D422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68D74F-543E-4414-B8BC-00219B30D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ECDFC-7462-40FA-991E-AAD1185D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F740A-6595-4563-B3AF-41CC1F03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2B11-3CAB-47ED-A193-575CC2C282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0A78-946E-4550-B8A4-EC7105D1FE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ACBA-BC67-4D63-BFFD-B39AFA39BD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CB7D-2412-4F97-A15B-1FBED34382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411B-5835-4849-A72A-66D5534764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4832-990E-4A33-BDB5-A3A26BFC32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5995-9BBF-4E76-9C78-755A8D3C1F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FD3E-B31B-47E5-B41F-2145DBA02B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2E8A8-B3EB-46C7-B400-084DB4446B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59EC-5B4B-492F-87D8-80302CEC02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F0C7-3522-4BDD-90FC-A02D1EDB11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375C-815F-4C80-8D34-39060EFE2F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DF5D-8D13-4829-9018-0E11E017F0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C7AA-4589-4D05-B5F9-C69AA1F802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9A0E-4237-4DA3-BD21-1AE8841881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8F5A-8B37-4E19-AC1D-5EE652A241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BC6A-3320-4724-8109-81EF2EDE81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AF13-BF37-4E8F-889D-6C8F1014D6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2FE3-1F25-4FDE-8272-BD23DAF359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2DE2-5BF3-41D9-A785-2FED5E4E62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8DE5-4350-415A-BE9A-0F3F4DD8D0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EF75-EBBD-4EDF-B6C3-BCD6F7C3C09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BAC0-D20E-4018-BE19-B200276EB0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6381-30F6-4ED2-9D1B-EE04D283A6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2AF2-600A-4429-A19E-FA54208C84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0D16-A7CF-4529-90F8-212D9FB30C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BF92-3880-446A-8AFB-7BD0EC8710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C30E-9CC0-42B5-8328-DF3ED2F097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0B35-B25A-495C-B33E-78624E8D03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12BE-FB05-4F02-829F-EDCFADF57C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4204-7EF9-4B4F-9A97-B48FA2E044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A62A-F6FB-4D9B-A670-367FB8C2F1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A558-9516-4C6B-AAA1-12257A016A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CE05-9DF9-4194-9440-498E84F2795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42ED-D40E-4618-93A2-76883C7412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3C92-0378-4AC5-8A13-E21803BA6F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6A00-0F5A-44F7-9EDC-C7BBDDAB8C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027D-6F15-4AA7-A5AD-11FCF190B3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06E0-3DD8-451D-B7E4-C8134E86A7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84E7-C549-4C23-A570-3AA871C036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C567-944F-4A75-B789-F32DE1EB36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1016-21D4-48D7-B7FF-C99D1CE0C3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2643120" y="2928960"/>
            <a:ext cx="38577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图片 1" descr=""/>
          <p:cNvPicPr/>
          <p:nvPr/>
        </p:nvPicPr>
        <p:blipFill>
          <a:blip r:embed="rId1"/>
          <a:stretch/>
        </p:blipFill>
        <p:spPr>
          <a:xfrm>
            <a:off x="209520" y="736560"/>
            <a:ext cx="872496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图片 2" descr=""/>
          <p:cNvPicPr/>
          <p:nvPr/>
        </p:nvPicPr>
        <p:blipFill>
          <a:blip r:embed="rId1"/>
          <a:stretch/>
        </p:blipFill>
        <p:spPr>
          <a:xfrm>
            <a:off x="162000" y="1038240"/>
            <a:ext cx="882000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3" name="图片 1" descr=""/>
          <p:cNvPicPr/>
          <p:nvPr/>
        </p:nvPicPr>
        <p:blipFill>
          <a:blip r:embed="rId1"/>
          <a:stretch/>
        </p:blipFill>
        <p:spPr>
          <a:xfrm>
            <a:off x="233280" y="2338560"/>
            <a:ext cx="8675640" cy="21808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2"/>
          <a:stretch/>
        </p:blipFill>
        <p:spPr>
          <a:xfrm>
            <a:off x="900000" y="2378160"/>
            <a:ext cx="1656000" cy="4093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3"/>
          <a:stretch/>
        </p:blipFill>
        <p:spPr>
          <a:xfrm>
            <a:off x="3924360" y="2363760"/>
            <a:ext cx="1655640" cy="40968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4"/>
          <a:stretch/>
        </p:blipFill>
        <p:spPr>
          <a:xfrm>
            <a:off x="7020000" y="2392200"/>
            <a:ext cx="1655640" cy="40968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5"/>
          <a:stretch/>
        </p:blipFill>
        <p:spPr>
          <a:xfrm>
            <a:off x="900000" y="2909880"/>
            <a:ext cx="2087640" cy="40968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" descr=""/>
          <p:cNvPicPr/>
          <p:nvPr/>
        </p:nvPicPr>
        <p:blipFill>
          <a:blip r:embed="rId6"/>
          <a:stretch/>
        </p:blipFill>
        <p:spPr>
          <a:xfrm>
            <a:off x="3851280" y="2895480"/>
            <a:ext cx="1655640" cy="40968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1" descr=""/>
          <p:cNvPicPr/>
          <p:nvPr/>
        </p:nvPicPr>
        <p:blipFill>
          <a:blip r:embed="rId7"/>
          <a:stretch/>
        </p:blipFill>
        <p:spPr>
          <a:xfrm>
            <a:off x="6948360" y="2924280"/>
            <a:ext cx="1656000" cy="40932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" descr=""/>
          <p:cNvPicPr/>
          <p:nvPr/>
        </p:nvPicPr>
        <p:blipFill>
          <a:blip r:embed="rId8"/>
          <a:stretch/>
        </p:blipFill>
        <p:spPr>
          <a:xfrm>
            <a:off x="900000" y="3414600"/>
            <a:ext cx="1656000" cy="40968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" descr=""/>
          <p:cNvPicPr/>
          <p:nvPr/>
        </p:nvPicPr>
        <p:blipFill>
          <a:blip r:embed="rId9"/>
          <a:stretch/>
        </p:blipFill>
        <p:spPr>
          <a:xfrm>
            <a:off x="3924360" y="3400560"/>
            <a:ext cx="1655640" cy="40932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" descr=""/>
          <p:cNvPicPr/>
          <p:nvPr/>
        </p:nvPicPr>
        <p:blipFill>
          <a:blip r:embed="rId10"/>
          <a:stretch/>
        </p:blipFill>
        <p:spPr>
          <a:xfrm>
            <a:off x="7020000" y="3429000"/>
            <a:ext cx="1655640" cy="40968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" descr=""/>
          <p:cNvPicPr/>
          <p:nvPr/>
        </p:nvPicPr>
        <p:blipFill>
          <a:blip r:embed="rId11"/>
          <a:stretch/>
        </p:blipFill>
        <p:spPr>
          <a:xfrm>
            <a:off x="971640" y="3948120"/>
            <a:ext cx="165564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219240" y="1071720"/>
            <a:ext cx="870552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图片 1" descr=""/>
          <p:cNvPicPr/>
          <p:nvPr/>
        </p:nvPicPr>
        <p:blipFill>
          <a:blip r:embed="rId1"/>
          <a:stretch/>
        </p:blipFill>
        <p:spPr>
          <a:xfrm>
            <a:off x="166680" y="860400"/>
            <a:ext cx="8809200" cy="568656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2"/>
          <a:stretch/>
        </p:blipFill>
        <p:spPr>
          <a:xfrm>
            <a:off x="611280" y="5661000"/>
            <a:ext cx="50328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0" name="图片 1" descr=""/>
          <p:cNvPicPr/>
          <p:nvPr/>
        </p:nvPicPr>
        <p:blipFill>
          <a:blip r:embed="rId1"/>
          <a:stretch/>
        </p:blipFill>
        <p:spPr>
          <a:xfrm>
            <a:off x="609480" y="843120"/>
            <a:ext cx="7925040" cy="517176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2"/>
          <a:stretch/>
        </p:blipFill>
        <p:spPr>
          <a:xfrm>
            <a:off x="971640" y="836640"/>
            <a:ext cx="503280" cy="40968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3"/>
          <a:stretch/>
        </p:blipFill>
        <p:spPr>
          <a:xfrm>
            <a:off x="1042920" y="1916280"/>
            <a:ext cx="503280" cy="40932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4"/>
          <a:stretch/>
        </p:blipFill>
        <p:spPr>
          <a:xfrm>
            <a:off x="1042920" y="2924280"/>
            <a:ext cx="503280" cy="40932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5"/>
          <a:stretch/>
        </p:blipFill>
        <p:spPr>
          <a:xfrm>
            <a:off x="971640" y="4005360"/>
            <a:ext cx="503280" cy="40932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6"/>
          <a:stretch/>
        </p:blipFill>
        <p:spPr>
          <a:xfrm>
            <a:off x="971640" y="4508640"/>
            <a:ext cx="503280" cy="40932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7"/>
          <a:stretch/>
        </p:blipFill>
        <p:spPr>
          <a:xfrm>
            <a:off x="971640" y="5589720"/>
            <a:ext cx="503280" cy="4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7" name="图片 1" descr=""/>
          <p:cNvPicPr/>
          <p:nvPr/>
        </p:nvPicPr>
        <p:blipFill>
          <a:blip r:embed="rId1"/>
          <a:stretch/>
        </p:blipFill>
        <p:spPr>
          <a:xfrm>
            <a:off x="990720" y="1933560"/>
            <a:ext cx="7162560" cy="299088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2"/>
          <a:stretch/>
        </p:blipFill>
        <p:spPr>
          <a:xfrm>
            <a:off x="1332000" y="1989000"/>
            <a:ext cx="503280" cy="40968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503280" cy="40932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4"/>
          <a:stretch/>
        </p:blipFill>
        <p:spPr>
          <a:xfrm>
            <a:off x="1332000" y="4005360"/>
            <a:ext cx="503280" cy="4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图片 1" descr=""/>
          <p:cNvPicPr/>
          <p:nvPr/>
        </p:nvPicPr>
        <p:blipFill>
          <a:blip r:embed="rId1"/>
          <a:stretch/>
        </p:blipFill>
        <p:spPr>
          <a:xfrm>
            <a:off x="219240" y="857160"/>
            <a:ext cx="870552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图片 1" descr=""/>
          <p:cNvPicPr/>
          <p:nvPr/>
        </p:nvPicPr>
        <p:blipFill>
          <a:blip r:embed="rId1"/>
          <a:stretch/>
        </p:blipFill>
        <p:spPr>
          <a:xfrm>
            <a:off x="185760" y="1324080"/>
            <a:ext cx="877104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3" name="图片 1" descr=""/>
          <p:cNvPicPr/>
          <p:nvPr/>
        </p:nvPicPr>
        <p:blipFill>
          <a:blip r:embed="rId1"/>
          <a:stretch/>
        </p:blipFill>
        <p:spPr>
          <a:xfrm>
            <a:off x="152280" y="1023840"/>
            <a:ext cx="8839440" cy="481032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2"/>
          <a:stretch/>
        </p:blipFill>
        <p:spPr>
          <a:xfrm>
            <a:off x="826920" y="2133720"/>
            <a:ext cx="7058160" cy="40932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3"/>
          <a:stretch/>
        </p:blipFill>
        <p:spPr>
          <a:xfrm>
            <a:off x="826920" y="3198960"/>
            <a:ext cx="7058160" cy="40932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4"/>
          <a:stretch/>
        </p:blipFill>
        <p:spPr>
          <a:xfrm>
            <a:off x="755640" y="4753080"/>
            <a:ext cx="8137440" cy="40932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5"/>
          <a:stretch/>
        </p:blipFill>
        <p:spPr>
          <a:xfrm>
            <a:off x="611280" y="5311800"/>
            <a:ext cx="813744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8" name="图片 1" descr=""/>
          <p:cNvPicPr/>
          <p:nvPr/>
        </p:nvPicPr>
        <p:blipFill>
          <a:blip r:embed="rId1"/>
          <a:stretch/>
        </p:blipFill>
        <p:spPr>
          <a:xfrm>
            <a:off x="243000" y="2395440"/>
            <a:ext cx="8656560" cy="206712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2"/>
          <a:stretch/>
        </p:blipFill>
        <p:spPr>
          <a:xfrm>
            <a:off x="826920" y="2924280"/>
            <a:ext cx="5400720" cy="40932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3"/>
          <a:stretch/>
        </p:blipFill>
        <p:spPr>
          <a:xfrm>
            <a:off x="900000" y="3976560"/>
            <a:ext cx="540072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15:54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